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a87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a87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6486480"/>
            <a:ext cx="12192120" cy="371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567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413f47"/>
              </a:buClr>
              <a:buSzPct val="25000"/>
              <a:buFont typeface="Arial"/>
              <a:buChar char="•"/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13f47"/>
              </a:buClr>
              <a:buSzPct val="25000"/>
              <a:buFont typeface="Arial"/>
              <a:buChar char="–"/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13f47"/>
              </a:buClr>
              <a:buSzPct val="25000"/>
              <a:buFont typeface="Arial"/>
              <a:buChar char="•"/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13f47"/>
              </a:buClr>
              <a:buSzPct val="25000"/>
              <a:buFont typeface="Arial"/>
              <a:buChar char="–"/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13f47"/>
              </a:buClr>
              <a:buSzPct val="25000"/>
              <a:buFont typeface="Arial"/>
              <a:buChar char="»"/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3f47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13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91880" y="2276280"/>
            <a:ext cx="7991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Manufacturing in Australia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ards increased Competitiveness and Growth</a:t>
            </a:r>
            <a:br>
              <a:rPr sz="2400"/>
            </a:br>
            <a:br>
              <a:rPr sz="3200"/>
            </a:b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view of our Growth Centre Operating Model </a:t>
            </a:r>
            <a:endParaRPr b="0" lang="en-US" sz="2200" spc="-1" strike="noStrike">
              <a:solidFill>
                <a:srgbClr val="3a87ae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e Value proposition of Growth Centre membership is strong </a:t>
            </a:r>
            <a:br>
              <a:rPr sz="2800"/>
            </a:b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55720" y="1339920"/>
          <a:ext cx="8713440" cy="5200560"/>
        </p:xfrm>
        <a:graphic>
          <a:graphicData uri="http://schemas.openxmlformats.org/drawingml/2006/table">
            <a:tbl>
              <a:tblPr/>
              <a:tblGrid>
                <a:gridCol w="1098720"/>
                <a:gridCol w="1081440"/>
                <a:gridCol w="4896360"/>
                <a:gridCol w="1636920"/>
              </a:tblGrid>
              <a:tr h="20448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n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Benefits, involvement and IP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</a:tr>
              <a:tr h="1275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ier 1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arg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ulti-national organis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$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ble to appoint 1 member of Innovation and Technology Advisory Group (capped at 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ull access to all IP for both R&amp;D and Commercialisation without royalty/ license fee pay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Option to, depending on relevance, lead and staff key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owth Centr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rget of 20 members to raise $2m per an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4796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ier 2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search organisations /Univers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ble to appoint 1 member of Innovation and Technology Advisory Grou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capped at 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ull access to all IP for R&amp;D purposes (only) without royalty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icense fee pay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Option to, depending on relevance, staff key Growth Centre projects. Access to IP for Commercialisation with royalty payment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rget of 20 members to raise $1m per an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75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ier 3: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id-sized organis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llectively able to appoint at least 3 members of the Innovation and Technology Advisory Grou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irst and last right to staff Growth Centre projects and collaborate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irst hand with Tier 1 and Tier 2 Member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Access to IP for R&amp;D and Commercialisation on payment of royalty/ license fe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rget of 50 members to raise $500,000 per an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8420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ier 4: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mall organis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677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$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llectively able to appoint at least 2 members of the Innovation and Technology Advisory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0000" indent="-270000"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SzPct val="25000"/>
                        <a:buFont typeface="Symbol"/>
                        <a:buChar char=""/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irst right to staff Growth Centre projects and collaborate with Tiers 1, 2 and 3 members on thes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arget of 100 members to raise $100,000 per an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3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E6A-EEF8-4C08-915F-BF664AC3F1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7444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nufacturing Export intensity increas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nufactured Products/ Services value (and associated margins) increase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nufacturing industry growth rate stabilizes and then grow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mand for STEM skill-based jobs increas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P Relevance and sharing increas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tional psyche on manufacturing industry increas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679320" indent="-303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679320" indent="-30348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hat does Advanced Manufacturing Growth Centre success look like</a:t>
            </a:r>
            <a:br>
              <a:rPr sz="2800"/>
            </a:b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A08-FBB4-40D3-BDF8-79AFE4C2C7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91880" y="2276280"/>
            <a:ext cx="7991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Manufacturing in Australia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ards increased Competitiveness and Growth</a:t>
            </a:r>
            <a:br>
              <a:rPr sz="2400"/>
            </a:br>
            <a:br>
              <a:rPr sz="3200"/>
            </a:b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view of our Growth Centre Operating Model </a:t>
            </a:r>
            <a:endParaRPr b="1" lang="en-US" sz="2200" spc="-1" strike="noStrike">
              <a:solidFill>
                <a:srgbClr val="005677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7444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very manufacturer can, and should, become advanced through changes to mindset, value chain scope and processes. 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mon characteristics include: 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value products and associated services,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runs/ high customisation – mass customisation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cope value chain 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ed manufacture – high quality, narrow tolerance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oriented – integrated into global supply chains 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and value focus – design led and compete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not price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vanced Manufacturing is a way of operating rather than an industry classification.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lvl="1" marL="56916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Manufacturing = Competitive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01B-0A0F-4ECD-8BFC-2FEF0B2856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is changing…and quickly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03160" y="1413000"/>
            <a:ext cx="8785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manufacturers focus on pre and post production (intangible) activities</a:t>
            </a:r>
            <a:endParaRPr b="0" lang="en-US" sz="1800" spc="-1" strike="noStrike">
              <a:solidFill>
                <a:srgbClr val="413f47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31880" y="1911240"/>
            <a:ext cx="8136000" cy="4542120"/>
            <a:chOff x="1631880" y="1911240"/>
            <a:chExt cx="8136000" cy="4542120"/>
          </a:xfrm>
        </p:grpSpPr>
        <p:sp>
          <p:nvSpPr>
            <p:cNvPr id="85" name="Rectangle 8"/>
            <p:cNvSpPr/>
            <p:nvPr/>
          </p:nvSpPr>
          <p:spPr>
            <a:xfrm>
              <a:off x="2567880" y="2255760"/>
              <a:ext cx="7200000" cy="3333240"/>
            </a:xfrm>
            <a:prstGeom prst="rect">
              <a:avLst/>
            </a:prstGeom>
            <a:solidFill>
              <a:srgbClr val="ea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2532240" y="5631840"/>
              <a:ext cx="173628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-production intang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>
              <a:off x="5082840" y="5631840"/>
              <a:ext cx="21344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 tangible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1"/>
            <p:cNvSpPr/>
            <p:nvPr/>
          </p:nvSpPr>
          <p:spPr>
            <a:xfrm>
              <a:off x="8103960" y="5631840"/>
              <a:ext cx="166392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production intang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4151880" y="6063840"/>
              <a:ext cx="410436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UFACTURING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1631880" y="1911240"/>
              <a:ext cx="191340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UE AD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3183480" y="3619440"/>
              <a:ext cx="5864760" cy="908640"/>
            </a:xfrm>
            <a:custGeom>
              <a:avLst/>
              <a:gdLst>
                <a:gd name="textAreaLeft" fmla="*/ 0 w 5864760"/>
                <a:gd name="textAreaRight" fmla="*/ 5865120 w 5864760"/>
                <a:gd name="textAreaTop" fmla="*/ 0 h 908640"/>
                <a:gd name="textAreaBottom" fmla="*/ 909000 h 908640"/>
              </a:gdLst>
              <a:ahLst/>
              <a:rect l="textAreaLeft" t="textAreaTop" r="textAreaRight" b="textAreaBottom"/>
              <a:pathLst>
                <a:path w="5237019" h="1070265">
                  <a:moveTo>
                    <a:pt x="0" y="0"/>
                  </a:moveTo>
                  <a:cubicBezTo>
                    <a:pt x="924791" y="534265"/>
                    <a:pt x="1849583" y="1068531"/>
                    <a:pt x="2722419" y="1070263"/>
                  </a:cubicBezTo>
                  <a:cubicBezTo>
                    <a:pt x="3595255" y="1071995"/>
                    <a:pt x="5237019" y="10391"/>
                    <a:pt x="5237019" y="10391"/>
                  </a:cubicBezTo>
                  <a:lnTo>
                    <a:pt x="5237019" y="10391"/>
                  </a:lnTo>
                  <a:lnTo>
                    <a:pt x="5237019" y="10391"/>
                  </a:lnTo>
                  <a:lnTo>
                    <a:pt x="5237019" y="10391"/>
                  </a:lnTo>
                </a:path>
              </a:pathLst>
            </a:custGeom>
            <a:noFill/>
            <a:ln w="25560">
              <a:solidFill>
                <a:srgbClr val="1b95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3183480" y="2775240"/>
              <a:ext cx="5864760" cy="2207160"/>
            </a:xfrm>
            <a:custGeom>
              <a:avLst/>
              <a:gdLst>
                <a:gd name="textAreaLeft" fmla="*/ 0 w 5864760"/>
                <a:gd name="textAreaRight" fmla="*/ 5865120 w 5864760"/>
                <a:gd name="textAreaTop" fmla="*/ 0 h 2207160"/>
                <a:gd name="textAreaBottom" fmla="*/ 2207520 h 2207160"/>
              </a:gdLst>
              <a:ahLst/>
              <a:rect l="textAreaLeft" t="textAreaTop" r="textAreaRight" b="textAreaBottom"/>
              <a:pathLst>
                <a:path w="5237019" h="1070265">
                  <a:moveTo>
                    <a:pt x="0" y="0"/>
                  </a:moveTo>
                  <a:cubicBezTo>
                    <a:pt x="924791" y="534265"/>
                    <a:pt x="1849583" y="1068531"/>
                    <a:pt x="2722419" y="1070263"/>
                  </a:cubicBezTo>
                  <a:cubicBezTo>
                    <a:pt x="3595255" y="1071995"/>
                    <a:pt x="5237019" y="10391"/>
                    <a:pt x="5237019" y="10391"/>
                  </a:cubicBezTo>
                  <a:lnTo>
                    <a:pt x="5237019" y="10391"/>
                  </a:lnTo>
                  <a:lnTo>
                    <a:pt x="5237019" y="10391"/>
                  </a:lnTo>
                  <a:lnTo>
                    <a:pt x="5237019" y="103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ight Arrow 18"/>
            <p:cNvSpPr/>
            <p:nvPr/>
          </p:nvSpPr>
          <p:spPr>
            <a:xfrm rot="16200000">
              <a:off x="3093480" y="3209040"/>
              <a:ext cx="324360" cy="144360"/>
            </a:xfrm>
            <a:prstGeom prst="rightArrow">
              <a:avLst>
                <a:gd name="adj1" fmla="val 50000"/>
                <a:gd name="adj2" fmla="val 23332"/>
              </a:avLst>
            </a:prstGeom>
            <a:solidFill>
              <a:srgbClr val="0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ight Arrow 19"/>
            <p:cNvSpPr/>
            <p:nvPr/>
          </p:nvSpPr>
          <p:spPr>
            <a:xfrm rot="16200000">
              <a:off x="8813880" y="3209040"/>
              <a:ext cx="324360" cy="144360"/>
            </a:xfrm>
            <a:prstGeom prst="rightArrow">
              <a:avLst>
                <a:gd name="adj1" fmla="val 50000"/>
                <a:gd name="adj2" fmla="val 23332"/>
              </a:avLst>
            </a:prstGeom>
            <a:solidFill>
              <a:srgbClr val="0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Arrow 20"/>
            <p:cNvSpPr/>
            <p:nvPr/>
          </p:nvSpPr>
          <p:spPr>
            <a:xfrm rot="5400000">
              <a:off x="6059880" y="4670280"/>
              <a:ext cx="324360" cy="144360"/>
            </a:xfrm>
            <a:prstGeom prst="rightArrow">
              <a:avLst>
                <a:gd name="adj1" fmla="val 50000"/>
                <a:gd name="adj2" fmla="val 23332"/>
              </a:avLst>
            </a:prstGeom>
            <a:solidFill>
              <a:srgbClr val="0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21"/>
            <p:cNvSpPr/>
            <p:nvPr/>
          </p:nvSpPr>
          <p:spPr>
            <a:xfrm>
              <a:off x="6149520" y="2450520"/>
              <a:ext cx="795600" cy="0"/>
            </a:xfrm>
            <a:prstGeom prst="line">
              <a:avLst/>
            </a:prstGeom>
            <a:ln w="19080">
              <a:solidFill>
                <a:srgbClr val="1b95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22"/>
            <p:cNvSpPr/>
            <p:nvPr/>
          </p:nvSpPr>
          <p:spPr>
            <a:xfrm>
              <a:off x="6150240" y="268308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3"/>
            <p:cNvSpPr/>
            <p:nvPr/>
          </p:nvSpPr>
          <p:spPr>
            <a:xfrm>
              <a:off x="5378400" y="2348280"/>
              <a:ext cx="737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>
              <a:off x="5378400" y="2580480"/>
              <a:ext cx="737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5"/>
            <p:cNvSpPr/>
            <p:nvPr/>
          </p:nvSpPr>
          <p:spPr>
            <a:xfrm>
              <a:off x="2862000" y="2348280"/>
              <a:ext cx="682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4485960" y="3616200"/>
              <a:ext cx="59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3835800" y="4336560"/>
              <a:ext cx="130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gistics: purc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5572080" y="5038200"/>
              <a:ext cx="130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7027560" y="361620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7525080" y="439848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8256600" y="2348280"/>
              <a:ext cx="151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 – or after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es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traight Connector 2"/>
          <p:cNvSpPr/>
          <p:nvPr/>
        </p:nvSpPr>
        <p:spPr>
          <a:xfrm>
            <a:off x="2567160" y="2276640"/>
            <a:ext cx="1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32"/>
          <p:cNvSpPr/>
          <p:nvPr/>
        </p:nvSpPr>
        <p:spPr>
          <a:xfrm>
            <a:off x="2567160" y="558972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8688240" y="609444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: Veugelers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3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60F-484C-4F3C-B749-6749C244A8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ur industry consultation confirmed this manufacturing value add profile</a:t>
            </a:r>
            <a:br>
              <a:rPr sz="2800"/>
            </a:b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74440" y="141300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rching objectives of the Growth Centre programme were ranked by the enterprises consulted: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engagement with international markets and access to (almost universally digital) global supply chain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the management and workforce skills 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engagement between research and industry, and within industry, to achieve commercialisation outcom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unnecessary and over burdensome regulation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70E-F957-45BE-96C0-5946250C9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7444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16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led – emphasis on engaged enterprises (not observers)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ngaging Australian companies with global supply chains and (therefore) market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ment and collaboration on projects and programmes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ing all Growth Centre objectives by bridging the commercialisation “valley of death”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: Private funding gives way to Private : Public funding over 4 years to enable sustainability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1600" spc="-1" strike="noStrike">
              <a:solidFill>
                <a:srgbClr val="413f47"/>
              </a:solidFill>
              <a:latin typeface="Arial"/>
            </a:endParaRPr>
          </a:p>
          <a:p>
            <a:pPr lvl="1" marL="669960" indent="-247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endParaRPr b="0" lang="en-US" sz="16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Growth Centre operating model has 5 key elements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0779-9B95-4B41-A11A-8800931B86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ing the commercialisation “valley of death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t the heart of our model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74440" y="1413000"/>
            <a:ext cx="864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MS PGothic"/>
              </a:rPr>
              <a:t>Our Growth Centre will operate in TRLs 4-7 and balance the traditional funding and priority vector</a:t>
            </a:r>
            <a:endParaRPr b="0" lang="en-US" sz="2000" spc="-1" strike="noStrike">
              <a:solidFill>
                <a:srgbClr val="413f47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4A71-1747-420C-ACE6-849C4A5A56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1774800" y="5950080"/>
            <a:ext cx="889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MS PGothic"/>
              </a:rPr>
              <a:t>    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MS PGothic"/>
              </a:rPr>
              <a:t>Research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MS PGothic"/>
              </a:rPr>
              <a:t>          Development             Commercia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66800" y="2300400"/>
            <a:ext cx="6769440" cy="3504960"/>
            <a:chOff x="2566800" y="2300400"/>
            <a:chExt cx="6769440" cy="3504960"/>
          </a:xfrm>
        </p:grpSpPr>
        <p:sp>
          <p:nvSpPr>
            <p:cNvPr id="122" name="Straight Connector 19"/>
            <p:cNvSpPr/>
            <p:nvPr/>
          </p:nvSpPr>
          <p:spPr>
            <a:xfrm flipV="1">
              <a:off x="4845960" y="2697480"/>
              <a:ext cx="0" cy="282492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2836440" y="3404160"/>
              <a:ext cx="2000880" cy="2118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ight Arrow 21"/>
            <p:cNvSpPr/>
            <p:nvPr/>
          </p:nvSpPr>
          <p:spPr>
            <a:xfrm>
              <a:off x="2659680" y="5381640"/>
              <a:ext cx="6676560" cy="423720"/>
            </a:xfrm>
            <a:prstGeom prst="rightArrow">
              <a:avLst>
                <a:gd name="adj1" fmla="val 50000"/>
                <a:gd name="adj2" fmla="val 80244"/>
              </a:avLst>
            </a:prstGeom>
            <a:solidFill>
              <a:srgbClr val="005677"/>
            </a:solidFill>
            <a:ln w="7632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CHNOLOGY &amp; MANUFACTURING READINESS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Down Arrow 22"/>
            <p:cNvSpPr/>
            <p:nvPr/>
          </p:nvSpPr>
          <p:spPr>
            <a:xfrm rot="10800000">
              <a:off x="2566800" y="2344680"/>
              <a:ext cx="353160" cy="3363840"/>
            </a:xfrm>
            <a:prstGeom prst="downArrow">
              <a:avLst>
                <a:gd name="adj1" fmla="val 50000"/>
                <a:gd name="adj2" fmla="val 31133"/>
              </a:avLst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VESTMENT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3"/>
            <p:cNvSpPr/>
            <p:nvPr/>
          </p:nvSpPr>
          <p:spPr>
            <a:xfrm>
              <a:off x="3038040" y="2300400"/>
              <a:ext cx="164808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b9590"/>
                  </a:solidFill>
                  <a:latin typeface="Arial"/>
                </a:rPr>
                <a:t>Government &amp; Univers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b9590"/>
                  </a:solidFill>
                  <a:latin typeface="Arial"/>
                </a:rPr>
                <a:t>TRL &amp; MRL 1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37040" y="2300400"/>
            <a:ext cx="3967200" cy="3217680"/>
            <a:chOff x="4937040" y="2300400"/>
            <a:chExt cx="3967200" cy="3217680"/>
          </a:xfrm>
        </p:grpSpPr>
        <p:sp>
          <p:nvSpPr>
            <p:cNvPr id="128" name="Straight Connector 33"/>
            <p:cNvSpPr/>
            <p:nvPr/>
          </p:nvSpPr>
          <p:spPr>
            <a:xfrm flipV="1">
              <a:off x="6841080" y="2708640"/>
              <a:ext cx="0" cy="273708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4"/>
            <p:cNvSpPr/>
            <p:nvPr/>
          </p:nvSpPr>
          <p:spPr>
            <a:xfrm>
              <a:off x="6852240" y="3404160"/>
              <a:ext cx="2052000" cy="2041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7040520" y="2300400"/>
              <a:ext cx="1648080" cy="12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b9590"/>
                  </a:solidFill>
                  <a:latin typeface="Arial"/>
                </a:rPr>
                <a:t>Private S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b9590"/>
                  </a:solidFill>
                  <a:latin typeface="Arial"/>
                </a:rPr>
                <a:t>TRL &amp; MRL 8-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Straight Arrow Connector 36"/>
            <p:cNvCxnSpPr/>
            <p:nvPr/>
          </p:nvCxnSpPr>
          <p:spPr>
            <a:xfrm>
              <a:off x="4937040" y="3861000"/>
              <a:ext cx="1825200" cy="1080"/>
            </a:xfrm>
            <a:prstGeom prst="straightConnector1">
              <a:avLst/>
            </a:prstGeom>
            <a:ln w="19080">
              <a:solidFill>
                <a:srgbClr val="1b959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32" name="Rectangle 37"/>
            <p:cNvSpPr/>
            <p:nvPr/>
          </p:nvSpPr>
          <p:spPr>
            <a:xfrm>
              <a:off x="5098320" y="3141000"/>
              <a:ext cx="15303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b959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5098320" y="4633200"/>
              <a:ext cx="153036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b9590"/>
                  </a:solidFill>
                  <a:latin typeface="Arial"/>
                </a:rPr>
                <a:t>TRL &amp; MR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b9590"/>
                  </a:solidFill>
                  <a:latin typeface="Arial"/>
                </a:rPr>
                <a:t>4 –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90800" y="4005360"/>
            <a:ext cx="1944720" cy="792000"/>
            <a:chOff x="1990800" y="4005360"/>
            <a:chExt cx="1944720" cy="792000"/>
          </a:xfrm>
        </p:grpSpPr>
        <p:sp>
          <p:nvSpPr>
            <p:cNvPr id="135" name="Right Arrow 3"/>
            <p:cNvSpPr/>
            <p:nvPr/>
          </p:nvSpPr>
          <p:spPr>
            <a:xfrm>
              <a:off x="1990800" y="4005360"/>
              <a:ext cx="1944720" cy="792000"/>
            </a:xfrm>
            <a:prstGeom prst="rightArrow">
              <a:avLst>
                <a:gd name="adj1" fmla="val 50000"/>
                <a:gd name="adj2" fmla="val 50018"/>
              </a:avLst>
            </a:prstGeom>
            <a:solidFill>
              <a:srgbClr val="61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4"/>
            <p:cNvSpPr/>
            <p:nvPr/>
          </p:nvSpPr>
          <p:spPr>
            <a:xfrm>
              <a:off x="2062800" y="422136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raditional v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71880" y="4005360"/>
            <a:ext cx="4680000" cy="792000"/>
            <a:chOff x="4871880" y="4005360"/>
            <a:chExt cx="4680000" cy="792000"/>
          </a:xfrm>
        </p:grpSpPr>
        <p:sp>
          <p:nvSpPr>
            <p:cNvPr id="138" name="Right Arrow 24"/>
            <p:cNvSpPr/>
            <p:nvPr/>
          </p:nvSpPr>
          <p:spPr>
            <a:xfrm flipH="1">
              <a:off x="4871880" y="4005360"/>
              <a:ext cx="4680000" cy="792000"/>
            </a:xfrm>
            <a:prstGeom prst="rightArrow">
              <a:avLst>
                <a:gd name="adj1" fmla="val 50000"/>
                <a:gd name="adj2" fmla="val 49981"/>
              </a:avLst>
            </a:prstGeom>
            <a:solidFill>
              <a:srgbClr val="002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5"/>
            <p:cNvSpPr/>
            <p:nvPr/>
          </p:nvSpPr>
          <p:spPr>
            <a:xfrm>
              <a:off x="6167880" y="4221360"/>
              <a:ext cx="2664000" cy="307080"/>
            </a:xfrm>
            <a:prstGeom prst="rect">
              <a:avLst/>
            </a:prstGeom>
            <a:solidFill>
              <a:srgbClr val="002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Growth Centre v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23880" y="1268280"/>
            <a:ext cx="9144000" cy="5256360"/>
          </a:xfrm>
          <a:prstGeom prst="rect">
            <a:avLst/>
          </a:prstGeom>
          <a:solidFill>
            <a:srgbClr val="ea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e Growth Centres initiative provides the impetus and national scale for the Growth Centre vector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6AA-0E58-4589-A1BA-26DA13B885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063880" y="1413000"/>
            <a:ext cx="8229600" cy="4832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Our members will engage on projects and build our footprint in global supply chains</a:t>
            </a:r>
            <a:br>
              <a:rPr sz="2800"/>
            </a:b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 rot="20901600">
            <a:off x="1901880" y="3369960"/>
            <a:ext cx="8318520" cy="995400"/>
          </a:xfrm>
          <a:prstGeom prst="rect">
            <a:avLst/>
          </a:prstGeom>
          <a:solidFill>
            <a:srgbClr val="0056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1847880" y="2133720"/>
            <a:ext cx="1908000" cy="13651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Innovation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sure relevancy and market demand for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3952800" y="2133720"/>
            <a:ext cx="1908360" cy="13651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Project calls draf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ember ins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6211800" y="2133720"/>
            <a:ext cx="1908360" cy="13651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FPs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mb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8424720" y="2133720"/>
            <a:ext cx="1908360" cy="13651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oposal sub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4"/>
          <p:cNvSpPr/>
          <p:nvPr/>
        </p:nvSpPr>
        <p:spPr>
          <a:xfrm>
            <a:off x="1847880" y="4221000"/>
            <a:ext cx="1908000" cy="13654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Proposals ve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-led review team &amp; funding recomm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3952800" y="4235400"/>
            <a:ext cx="1908360" cy="13654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Winners annou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aw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6211800" y="4235400"/>
            <a:ext cx="1908360" cy="13654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Projects condu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regular updates to full membe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8424720" y="4235400"/>
            <a:ext cx="1908360" cy="13654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5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Final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30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outpu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competiti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accessible to memb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1847880" y="1844640"/>
            <a:ext cx="1908000" cy="216000"/>
          </a:xfrm>
          <a:prstGeom prst="rect">
            <a:avLst/>
          </a:prstGeom>
          <a:solidFill>
            <a:srgbClr val="1b9590"/>
          </a:solidFill>
          <a:ln w="25560">
            <a:solidFill>
              <a:srgbClr val="1b95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9120240" y="5705640"/>
            <a:ext cx="1297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1774800" y="1413000"/>
            <a:ext cx="996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847880" y="3933720"/>
            <a:ext cx="1908000" cy="216000"/>
          </a:xfrm>
          <a:prstGeom prst="rect">
            <a:avLst/>
          </a:prstGeom>
          <a:solidFill>
            <a:srgbClr val="1b9590"/>
          </a:solidFill>
          <a:ln w="25560">
            <a:solidFill>
              <a:srgbClr val="1b95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8424720" y="1844640"/>
            <a:ext cx="1908360" cy="216000"/>
          </a:xfrm>
          <a:prstGeom prst="rect">
            <a:avLst/>
          </a:prstGeom>
          <a:solidFill>
            <a:srgbClr val="1b9590"/>
          </a:solidFill>
          <a:ln w="25560">
            <a:solidFill>
              <a:srgbClr val="1b95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3"/>
          <p:cNvSpPr/>
          <p:nvPr/>
        </p:nvSpPr>
        <p:spPr>
          <a:xfrm>
            <a:off x="8424720" y="3933720"/>
            <a:ext cx="1908360" cy="216000"/>
          </a:xfrm>
          <a:prstGeom prst="rect">
            <a:avLst/>
          </a:prstGeom>
          <a:solidFill>
            <a:srgbClr val="1b9590"/>
          </a:solidFill>
          <a:ln w="25560">
            <a:solidFill>
              <a:srgbClr val="1b95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6203880" y="3933720"/>
            <a:ext cx="1908360" cy="216000"/>
          </a:xfrm>
          <a:prstGeom prst="rect">
            <a:avLst/>
          </a:prstGeom>
          <a:solidFill>
            <a:srgbClr val="1b9590"/>
          </a:solidFill>
          <a:ln w="25560">
            <a:solidFill>
              <a:srgbClr val="1b95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dr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B82-FFC4-42B2-9233-9A1ED9ACA0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140400" bIns="46800" anchor="t">
            <a:noAutofit/>
          </a:bodyPr>
          <a:p>
            <a:pPr marL="18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Our Advanced Manufacturing Governance model will target the Growth Centre vector</a:t>
            </a:r>
            <a:endParaRPr b="1" lang="en-US" sz="2800" spc="-1" strike="noStrike">
              <a:solidFill>
                <a:srgbClr val="005677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05000" y="1557360"/>
            <a:ext cx="7780320" cy="4680000"/>
            <a:chOff x="2205000" y="1557360"/>
            <a:chExt cx="7780320" cy="4680000"/>
          </a:xfrm>
        </p:grpSpPr>
        <p:sp>
          <p:nvSpPr>
            <p:cNvPr id="164" name="Rectangle 3"/>
            <p:cNvSpPr/>
            <p:nvPr/>
          </p:nvSpPr>
          <p:spPr>
            <a:xfrm>
              <a:off x="2208960" y="1557360"/>
              <a:ext cx="7761600" cy="3898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ard 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5143320" y="2727360"/>
              <a:ext cx="1892880" cy="7797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677"/>
                  </a:solidFill>
                  <a:latin typeface="Arial"/>
                </a:rPr>
                <a:t>Chief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5677"/>
                  </a:solidFill>
                  <a:latin typeface="Arial"/>
                </a:rPr>
                <a:t>Executiv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5677"/>
                  </a:solidFill>
                  <a:latin typeface="Arial"/>
                </a:rPr>
                <a:t>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207880" y="5847480"/>
              <a:ext cx="7777440" cy="3898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ers, Partners and other industry participan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2212920" y="2830320"/>
              <a:ext cx="2268000" cy="5734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5677"/>
                  </a:solidFill>
                  <a:latin typeface="Arial"/>
                </a:rPr>
                <a:t>Chief Financi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2212920" y="4017600"/>
              <a:ext cx="1514160" cy="5734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keting &amp; commun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4200480" y="4017600"/>
              <a:ext cx="1514160" cy="5734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am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6283080" y="4017600"/>
              <a:ext cx="1514160" cy="5734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2207880" y="5067360"/>
              <a:ext cx="11520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nections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550320" y="5067360"/>
              <a:ext cx="9216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bs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662000" y="5067360"/>
              <a:ext cx="10800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ture Jobs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5932440" y="5067360"/>
              <a:ext cx="15120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ercialisation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7702920" y="2781360"/>
              <a:ext cx="2271600" cy="648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5677"/>
                  </a:solidFill>
                  <a:latin typeface="Arial"/>
                </a:rPr>
                <a:t>Risk and audit committ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Elbow Connector 15"/>
            <p:cNvCxnSpPr>
              <a:stCxn id="165" idx="2"/>
              <a:endCxn id="168" idx="0"/>
            </p:cNvCxnSpPr>
            <p:nvPr/>
          </p:nvCxnSpPr>
          <p:spPr>
            <a:xfrm rot="5400000">
              <a:off x="4273920" y="2202480"/>
              <a:ext cx="510840" cy="3120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77" name="Elbow Connector 16"/>
            <p:cNvCxnSpPr>
              <a:stCxn id="165" idx="2"/>
              <a:endCxn id="178" idx="0"/>
            </p:cNvCxnSpPr>
            <p:nvPr/>
          </p:nvCxnSpPr>
          <p:spPr>
            <a:xfrm flipH="1" rot="16200000">
              <a:off x="7397280" y="2198520"/>
              <a:ext cx="510840" cy="312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79" name="Elbow Connector 17"/>
            <p:cNvCxnSpPr>
              <a:stCxn id="165" idx="2"/>
              <a:endCxn id="170" idx="0"/>
            </p:cNvCxnSpPr>
            <p:nvPr/>
          </p:nvCxnSpPr>
          <p:spPr>
            <a:xfrm flipH="1" rot="16200000">
              <a:off x="6309720" y="3286800"/>
              <a:ext cx="510840" cy="95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0" name="Elbow Connector 18"/>
            <p:cNvCxnSpPr>
              <a:stCxn id="169" idx="2"/>
              <a:endCxn id="171" idx="0"/>
            </p:cNvCxnSpPr>
            <p:nvPr/>
          </p:nvCxnSpPr>
          <p:spPr>
            <a:xfrm rot="5400000">
              <a:off x="3632040" y="3742560"/>
              <a:ext cx="476640" cy="217440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1" name="Elbow Connector 19"/>
            <p:cNvCxnSpPr>
              <a:stCxn id="169" idx="2"/>
              <a:endCxn id="172" idx="0"/>
            </p:cNvCxnSpPr>
            <p:nvPr/>
          </p:nvCxnSpPr>
          <p:spPr>
            <a:xfrm rot="5400000">
              <a:off x="4245480" y="4356000"/>
              <a:ext cx="476640" cy="94716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2" name="Elbow Connector 20"/>
            <p:cNvCxnSpPr>
              <a:stCxn id="169" idx="2"/>
              <a:endCxn id="173" idx="0"/>
            </p:cNvCxnSpPr>
            <p:nvPr/>
          </p:nvCxnSpPr>
          <p:spPr>
            <a:xfrm flipH="1" rot="16200000">
              <a:off x="4842000" y="4707000"/>
              <a:ext cx="476640" cy="24480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3" name="Elbow Connector 21"/>
            <p:cNvCxnSpPr>
              <a:stCxn id="169" idx="2"/>
              <a:endCxn id="174" idx="0"/>
            </p:cNvCxnSpPr>
            <p:nvPr/>
          </p:nvCxnSpPr>
          <p:spPr>
            <a:xfrm flipH="1" rot="16200000">
              <a:off x="5584320" y="3963960"/>
              <a:ext cx="476640" cy="173124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4" name="Elbow Connector 22"/>
            <p:cNvCxnSpPr>
              <a:stCxn id="165" idx="2"/>
              <a:endCxn id="169" idx="0"/>
            </p:cNvCxnSpPr>
            <p:nvPr/>
          </p:nvCxnSpPr>
          <p:spPr>
            <a:xfrm rot="5400000">
              <a:off x="5267880" y="3196440"/>
              <a:ext cx="510840" cy="1132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5677"/>
              </a:solidFill>
              <a:miter/>
            </a:ln>
          </p:spPr>
        </p:cxnSp>
        <p:sp>
          <p:nvSpPr>
            <p:cNvPr id="185" name="Rectangle 23"/>
            <p:cNvSpPr/>
            <p:nvPr/>
          </p:nvSpPr>
          <p:spPr>
            <a:xfrm>
              <a:off x="7634880" y="5067360"/>
              <a:ext cx="10800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orms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8905320" y="5067360"/>
              <a:ext cx="1080000" cy="5734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ete f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Elbow Connector 25"/>
            <p:cNvCxnSpPr>
              <a:stCxn id="169" idx="2"/>
              <a:endCxn id="185" idx="0"/>
            </p:cNvCxnSpPr>
            <p:nvPr/>
          </p:nvCxnSpPr>
          <p:spPr>
            <a:xfrm flipH="1" rot="16200000">
              <a:off x="6328440" y="3220560"/>
              <a:ext cx="476640" cy="321768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cxnSp>
          <p:nvCxnSpPr>
            <p:cNvPr id="188" name="Elbow Connector 26"/>
            <p:cNvCxnSpPr>
              <a:stCxn id="169" idx="2"/>
              <a:endCxn id="186" idx="0"/>
            </p:cNvCxnSpPr>
            <p:nvPr/>
          </p:nvCxnSpPr>
          <p:spPr>
            <a:xfrm flipH="1" rot="16200000">
              <a:off x="6962760" y="2585520"/>
              <a:ext cx="476640" cy="448812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5677"/>
              </a:solidFill>
              <a:miter/>
            </a:ln>
          </p:spPr>
        </p:cxnSp>
        <p:sp>
          <p:nvSpPr>
            <p:cNvPr id="189" name="Straight Connector 27"/>
            <p:cNvSpPr/>
            <p:nvPr/>
          </p:nvSpPr>
          <p:spPr>
            <a:xfrm>
              <a:off x="4481280" y="3117240"/>
              <a:ext cx="662040" cy="0"/>
            </a:xfrm>
            <a:prstGeom prst="line">
              <a:avLst/>
            </a:prstGeom>
            <a:ln w="2844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2205000" y="2142360"/>
              <a:ext cx="7769520" cy="389880"/>
            </a:xfrm>
            <a:prstGeom prst="rect">
              <a:avLst/>
            </a:prstGeom>
            <a:solidFill>
              <a:srgbClr val="47b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novation and Technology Advisory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0"/>
            <p:cNvSpPr/>
            <p:nvPr/>
          </p:nvSpPr>
          <p:spPr>
            <a:xfrm>
              <a:off x="8460000" y="4017600"/>
              <a:ext cx="1514160" cy="5734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ship and eng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31"/>
            <p:cNvSpPr/>
            <p:nvPr/>
          </p:nvSpPr>
          <p:spPr>
            <a:xfrm flipV="1">
              <a:off x="6089760" y="1946880"/>
              <a:ext cx="0" cy="194760"/>
            </a:xfrm>
            <a:prstGeom prst="line">
              <a:avLst/>
            </a:prstGeom>
            <a:ln w="2844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32"/>
            <p:cNvSpPr/>
            <p:nvPr/>
          </p:nvSpPr>
          <p:spPr>
            <a:xfrm>
              <a:off x="6089760" y="2532240"/>
              <a:ext cx="0" cy="194760"/>
            </a:xfrm>
            <a:prstGeom prst="line">
              <a:avLst/>
            </a:prstGeom>
            <a:ln w="28440">
              <a:solidFill>
                <a:srgbClr val="0056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3"/>
          <p:cNvSpPr/>
          <p:nvPr/>
        </p:nvSpPr>
        <p:spPr>
          <a:xfrm>
            <a:off x="9480600" y="609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CC0A-7F71-4C5A-9D3B-A4BAD0113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5:17:00Z</dcterms:created>
  <dc:creator>Brown, Nathan</dc:creator>
  <dc:description>Department of Industry and Science | Departmental powerpoint presentation</dc:description>
  <dc:language>en-US</dc:language>
  <cp:lastModifiedBy>Lenovo User</cp:lastModifiedBy>
  <cp:lastPrinted>1899-12-30T00:00:00Z</cp:lastPrinted>
  <dcterms:modified xsi:type="dcterms:W3CDTF">2015-08-03T04:00:00Z</dcterms:modified>
  <cp:revision>115</cp:revision>
  <dc:subject/>
  <dc:title>Add your Presentation Title (32pt Arial Bold left aligned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Intranet Document</vt:lpwstr>
  </property>
  <property fmtid="{D5CDD505-2E9C-101B-9397-08002B2CF9AE}" pid="3" name="ContentTypeId">
    <vt:lpwstr>0x010100925154EF238E4F40B4D5C9A1E334582D000C440CA3C5CAE14989F497AA16C04EDD</vt:lpwstr>
  </property>
  <property fmtid="{D5CDD505-2E9C-101B-9397-08002B2CF9AE}" pid="4" name="CorePublishingComments">
    <vt:lpwstr>powerpoint presentation</vt:lpwstr>
  </property>
  <property fmtid="{D5CDD505-2E9C-101B-9397-08002B2CF9AE}" pid="5" name="Document Category">
    <vt:lpwstr>Forms/Templates</vt:lpwstr>
  </property>
  <property fmtid="{D5CDD505-2E9C-101B-9397-08002B2CF9AE}" pid="6" name="IncludeInContentRollups">
    <vt:lpwstr>0</vt:lpwstr>
  </property>
  <property fmtid="{D5CDD505-2E9C-101B-9397-08002B2CF9AE}" pid="7" name="IncludeInNotificationsAndUpdates">
    <vt:lpwstr>1</vt:lpwstr>
  </property>
  <property fmtid="{D5CDD505-2E9C-101B-9397-08002B2CF9AE}" pid="8" name="IncludeInRSSFeeds">
    <vt:lpwstr>0</vt:lpwstr>
  </property>
  <property fmtid="{D5CDD505-2E9C-101B-9397-08002B2CF9AE}" pid="9" name="KSOProductBuildVer">
    <vt:lpwstr>1033-8.1.0.3030</vt:lpwstr>
  </property>
  <property fmtid="{D5CDD505-2E9C-101B-9397-08002B2CF9AE}" pid="10" name="display_urn:schemas-microsoft-com:office:office#Author">
    <vt:lpwstr>Gardiner, Amy</vt:lpwstr>
  </property>
  <property fmtid="{D5CDD505-2E9C-101B-9397-08002B2CF9AE}" pid="11" name="display_urn:schemas-microsoft-com:office:office#Editor">
    <vt:lpwstr>Gardiner, Amy</vt:lpwstr>
  </property>
</Properties>
</file>